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99C-B6A9-4882-874C-0129ABC6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191-D10F-4BF7-A7C9-597D35A4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F191E-C91D-46A1-B30E-236863DB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10365-7F3D-4501-B333-1A74051B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6D350-616C-46A5-87A9-B1E0F9C7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BECFD-9D21-45D1-B2D4-0DFF4C82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CE64C-CC6E-4E8A-9B89-53475F45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5104E-1166-49CC-8CDD-264C193A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56022-094A-4E7E-9EED-3E62068D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32374-399F-48CA-9E8B-F0CADD0D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3540D-E98D-4764-BCDD-0FDDA360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3B0A4-DA52-4B93-9207-46EDD743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A6C-ACD0-4C32-BFF0-013A5518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1D610-98B2-4157-817D-A2A9346F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592AC-22D2-4F23-A0AD-CE6129A8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50280-FCE8-4D4A-9B31-F1702E82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930BC-FC02-4872-A7CA-6BA55D73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E9D0F-2521-4387-9394-B2873AE6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6C8D3-3B26-4C4F-9E6E-DD665A4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9C6A7-9323-42A7-8318-949B6D3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1B055-222F-4AE3-B330-03560907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A86B1-A0EC-4320-B5AD-35A7F4B8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942F9-3142-4C8B-9AAD-86CDE734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AB5-E5B9-4D4E-9855-1A88C67C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0A4E3-0489-40AE-A056-C445951E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5C570-4227-4489-A411-0ABE00B9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9F25B-B927-437B-B081-CEE246D3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4EC05-C2CA-4CAD-A63E-3376C986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528A1-F3C5-4B8A-B5AB-22694A40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FA9B2-DF70-49D4-9AB2-5D5F289D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2F986-F439-4D3A-9459-DFFEF143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8D056-E6CE-49CE-8640-0E5B1DCA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E3576-AEDC-4042-B3ED-BAE94D81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04838-8877-44D0-80C3-A51EED58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94A1-2297-4ADA-B808-EF5059A5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9E828-3D34-4481-B6C4-407DE28C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EBE19-0833-4ED8-A1D8-7DEC9FDD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9F0ED-53A9-489F-87A5-5FA18F75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54D65-A5DF-4B7B-93BA-A9348BB7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43AF0-8ADC-4D50-9D1C-7916CF1D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F69D2-315C-4DEE-80BD-C47B72EE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F5B7C-FC00-4A4D-836D-15928327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875B1-58C4-43DC-9485-D3E97179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1BD3D-0A13-4719-AAA4-63FCC472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0AF98-A7D2-47B4-BAB9-28294402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C10C-ADDE-4D98-9C74-6D75B12D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B5649-59FD-4AFF-A13E-4A3D6569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2182D-109B-4B10-B216-BEBA1ADD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51BF8-AC3C-4BEB-A176-408C822A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2EFDE-84A9-4E47-A590-6ED97961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DE1B0-1E88-4112-A173-E83B9882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113F6-E9C0-429A-91CD-2587B87C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09D67-B6EF-45AD-8757-DEE25355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1151A-4966-4081-AF70-585B8C9F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907A9-FA8E-4A0A-8207-D0467E66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6C596-FCDD-41B9-A0A3-272E37A8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C09E-CD7D-4D56-8626-8A40EDC2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BACE4-8911-4BE9-893B-32067061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0E9AE-4B1D-4837-B945-2EEBB35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3DA5C-CD6A-4A8B-BB9E-EE5C136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6802B-40DE-428A-844B-7BB00EB1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9A930-22B5-4499-8252-623FE7B3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EBC7B-6C79-4B94-A2E6-6C7992D2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B0C95-058D-4776-81D4-0F81E8C1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A4698-1F17-41B2-9ACC-939FF601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D7BD3-19E2-4C58-B153-3F347815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F6051-2A91-40BA-BE25-66E5D55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E605-C637-4043-A680-C5DE7DEA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C5DEA-74FE-4610-8B62-FEEDAFB5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B976C-5AB5-4B04-A291-64B35C91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FCBB3-6C65-4513-BEA5-17EA2D2B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79B48-738A-4B7D-9565-EA9EA4AA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5FFAE-451F-4B14-AC5F-8236D4D5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D09F7-6EFA-44AC-829F-0F64F138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1D208-EAB4-4003-89B8-4F76FB32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4F39E-C371-49BE-91D2-85121AE4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6328D-42AE-4DC7-BB4A-92976461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B80D3-B3AD-49D4-B07A-C243647C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7A46-AB7E-4BB6-98AD-27C926D6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AC8CC-ED7B-497E-836C-9C308A0E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CD9E2-9D7F-4B3D-8F15-25E1E5D2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20961A-A60A-410F-B6F9-6E341D9C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572C2-DB63-47C3-A496-6AEC5F9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B1647-3D22-4A43-AAEF-6D80DCA9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4520D-B1BA-4263-9932-3E914F9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36369-1049-40F1-A5FF-236C31E9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FB78F-ED48-4BC0-8A94-B92C9FF8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EDFA4-4539-4430-893D-6B4F8950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49B83-1BE3-4391-93F2-81994C51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28E9-A20E-49EC-8D3F-0064C252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28E95-9387-45D9-909D-B31AA2A5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D7C0B-BE83-46E0-B83C-3AEAA334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C40A3-A0B6-4B74-9B08-F84DDF23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E812A-F8F3-424E-9B38-605ED9FD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40A43-87AD-4A20-8464-A7DFA726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2F61C-2238-48F8-A779-BD5DF030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5ADF1-C2F9-4700-AACA-F1D9BF51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33461-32E3-4F88-9C6E-21CB740F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F41A0-69EE-4C60-9E5D-225445D2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5E119-D513-4811-A637-0B35F150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9745-4620-452D-ADBF-B8710FD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0556E-F3D9-4DB7-B09D-3020610F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9A733-243A-4DFF-9716-FEA68CC5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31EEF8-758A-4A2B-AA23-980F6663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CD09F-113F-4F4D-889E-F90EEAE4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C277B-372F-4E37-9143-DDDB4EC4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F9D65-AE20-4A4F-A498-33041BCF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9C3D0-D8D9-4222-AE22-F066E62A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E572B-0A63-4E35-A704-2BB2B8F1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74CBE-42DB-4228-80DB-AF0CB87A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0315C-11B5-40AC-A3DF-831A9F9C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122-7905-4EA2-BA33-5D47BF7F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DD19-E87F-4EF1-8D07-E3DAD18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16B99C-18E7-4E34-9CFB-96C40A6B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EC59A-52B0-4F5F-8581-4E7E80FB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73650-CA3B-4AC8-BF55-71A8DA5F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3B55E-4C2D-4CBA-B533-E5B61D50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47713-D50D-47F0-81D4-FD6C69A7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45634-02D7-4BA2-88A1-C2BB3D54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808305-3F32-46D2-98EE-4BC42D98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B91DE-A463-4D6C-9372-D524291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F74FB-670B-48D6-82F1-6BC92E47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9FE8D-B470-4F69-992F-A9010A10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7E1A-56F0-4C02-98C9-83125A9B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D7BF6-CA8F-480C-809F-9FAD178B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E9685-A878-42E8-9051-975B527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7B5F5-CDED-4B3E-8947-E4711A5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81D797-6800-4442-B9AB-E023BF70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8C00A4-D227-4E7F-B591-D5A32C2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F21FE-7421-4216-81BC-2937D702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DE25F-05C8-4A12-8C64-9CB30E1D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6332C9-C5F6-4364-A13E-A3224FFC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6BB7B3-10D1-476B-A6A3-4D459542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EB409-8573-4057-B880-FAF6A34B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99AB-91B8-41CF-A874-271688D6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4018C-1E71-4954-9350-FB8F4711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E85AC-6A9A-40ED-9624-9DD4C430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002B4-1992-441F-8AF2-1E1232F9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68FF7-6C70-41F5-B02B-B0413CBC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E7B83-78AB-446C-B003-82981967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4E54B-D230-4993-A84D-69DAE57A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5E016E-7634-4C72-85B5-3225E526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0F602F-5882-4FCA-AC38-30DC8494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D68AAC-E147-4BA7-BF07-38B0DB24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380574-D7B9-40CA-A6FB-6D6672E9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3639-3DA8-404F-AAD8-93E5B890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192642-54D9-42CD-9CC9-65ED3579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764A9-4AB8-4A2F-80DC-6997CEA9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64AD7-2757-43D1-998F-B4D29D21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4DDDE-46A4-4E88-B470-4A304506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E82E5-8024-47D0-9CE5-DE27B6BC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6EF31-7574-4B84-AF10-ED51034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89EE9-4C89-490F-9AA9-217780D8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E9792A-1EE5-4F9A-9246-C6502B8F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C8B740-7F7C-4A35-870B-F3DC7FB2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2C76C-DEFC-4E1C-9DF5-588BB2A9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D51A-E42E-4567-BC44-3FD06737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8FBD8-4F12-4199-BF1D-26C663FF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579AB-7588-4099-A1AB-591DAD77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917CD6-A627-44BE-9628-D2FFFCD5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C1A769-C227-451E-AEA3-6DAFA2BF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2805D-6EA9-4372-B10E-32C587D2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8A6B1-0753-458A-8C72-1DE45879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05E85A-7155-471D-81AD-A8AF543E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02A4E4-166A-47D2-BDCB-070FE1EF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C31A3A-8DCF-4002-AE48-C57954B5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9F917B-8A3C-4472-9997-DD6DD43B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906B-66E6-4F81-8D4C-CFE27A3B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FDB6A5-B25B-4BB9-A7FB-1BC474B0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104234-1752-48E0-AE5A-1F54F47D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2F96B6-2DB3-4059-894D-45679BC7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D339-4FE3-443C-AF07-4698D3C7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2D21-3E19-4C59-91B6-A547A8E6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8655-513C-467E-8569-F65AA3B4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F0F5-D8E7-4DDE-A424-D14A5A66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057-F12E-426A-B375-F795D398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2C26-C442-4B46-98D7-36968393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CE3F-AF76-4884-9E6D-2FC3CC4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3219E-0556-48C0-8FCC-702986CA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2A54-1A53-4AD9-BE4A-766F52A0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5DB6-C51A-4660-82BA-B4DB4BD4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A263-927F-49A0-9206-AD766A93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DDBE-7A96-4C87-97F2-0F232484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2985D-1A68-45B4-98F8-4D7E4FFD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C8CB4-63BA-420D-A0F9-800E002B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385B-97BF-40C8-8F27-9AC6AB42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F64-C0AC-424D-A288-430311FC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CC29-BCE9-492F-9E68-85A6ADA5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3A440-D533-4DD2-A30F-F5447CD9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52743-2224-4377-9E95-0879E302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4B809-757C-4E7F-9DBE-5301B8B2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860BC-88B6-4BD5-8597-E05311DE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C1D4-ABB6-4826-9480-7F3556F3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3FC4-BD5F-4AAE-A28C-C1BB1DF2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76AA-7902-4237-825D-8DC36A01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DB941-ADA1-4238-8FC7-9BBEF185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A1102-288B-484D-84FD-555667EC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1FC-5800-4EE5-A0D9-899B987F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B964A-840E-4D95-B0D5-AD9591E3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EDE5A-46CD-430A-AEF5-B11299E0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5CE59-4D22-4338-B7FC-EDA6506C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5F6A7-51A1-4535-AD17-3AE108E2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C594B-39D8-40FA-8247-3EED70E9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F7E24-64FF-4C3D-97E6-09B57A74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E0C98-A652-4361-802A-7499E855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3646-8A83-4B59-8DC2-B176513D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B5D51-550B-46F2-8370-30B14910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84F29-004A-499D-86CA-2F5B542A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F4C-F522-4A43-B8C7-90FD5D96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20B45-5A6C-4C98-B321-88594745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7E187-8D3C-4BFA-9E79-32ADA3F2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6BEB7-0D84-4F73-811A-ACEEEF0C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72941-48EB-480A-B416-11D0CFE4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4431C-FE06-4785-B8BE-13F5124E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5EFAA-9D72-4AEF-B8A6-6E67BF29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75BE3-2F5E-4FD2-9A95-9FD446C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C542D-9FF7-486F-A9D4-CA19EC6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BB5FA-1359-45FF-ADD8-8540868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F6FDA-95F3-4132-9AEF-3609ED85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E19-0ECE-4EBB-A713-5148D5E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301BD-A091-4E0D-871F-4613C5B2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DD24-0AA0-4AB2-B4EA-7CE3EC99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4A249-D1EE-47B6-994A-D7DD509B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765FE-8A59-4FA2-A497-CF57CE7A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219C7-1F72-4169-BCBB-9098D974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A5AF8-B232-4FAC-A720-8546B17C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0E374-9A66-4153-8711-445D7A20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247F8-4F96-49AA-9F6C-D2E560D0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E17F3-47DF-4E4D-B4D9-0F22CCBD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DF8DD-4816-429C-9FB3-C48A348B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15D-8E0E-4A3D-93E7-BACF0ED2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D6AEB-368F-4D7F-A957-8C7CF155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4F87C-68AB-4D30-88B1-95EE4FD6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1CCD8-81EC-4FF7-8E81-D6C1DF07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7D587-FB67-47BB-A571-BACFF90F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DCBA0-519E-45C3-B97A-6DC33273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FF913-C5C1-42AA-9E55-3B1BC970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8268C-561F-48D1-9691-C6EE423E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F795D-6582-4515-8907-7DF0D125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419E9-6190-4519-93C4-FCDD1649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97A51-6B06-45F7-B90B-7D4AAFE0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572-75A4-43C1-8DB7-591475A5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061A2-C4DF-4A70-B8D2-1126ED4B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9257E-46E0-4E78-A418-B93B2A69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F4BF9-0031-4DE8-AFAB-6C026C0E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677C9-C114-4070-8E17-E17E42F2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2BA7B-0D34-4B58-9F56-EEDB4B7C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AEE3D-99D3-459D-9A5C-50CB35E1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8B802-9BCD-4FE2-92F4-04982026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0E719-0E77-4080-AFCF-B546CEB9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0053A-9F6F-4D2F-84A7-D86F57F0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B40EE-7053-4635-ACD9-07D16CDE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AE40-E31E-4407-B5FD-A3BDF2D14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B217-2923-40BC-9C59-A15BEDCB73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369A-0B28-4B93-A30C-9F8A60D8BA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3D9E-7B21-421C-BC18-A6F21B9463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DBDC-4AF0-4A54-8D9F-4985A4F62D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90BD-10DA-407B-9C33-04ABC1CA03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D11D-00DD-4869-BB09-8CDE17DB73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ADC7-D0A9-4A3D-B289-23C6696F8E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FD7-EAA5-476B-A582-A33619ECCF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09A0-DC7C-440F-92F3-30DDDCD657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DD91-D6BC-462B-AF92-F361389FCC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4746-DC85-4176-9F3C-A671ACDB3C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0027-9803-44F6-ABBA-3E8AD44697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4D8C-8915-4BB9-8A7B-78F5184972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B0FA-C5C8-4310-B05B-F0E7949EC7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CE61-659E-4F00-A55D-7A9D5D23FF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78BA-77C2-4EFD-9F7E-2D43DCD8D7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5267-22CC-401C-A01C-C0759F340C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7809-D9E9-4B38-8C12-535ADCB501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4B17-4246-4582-858E-A77595A6F7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E454-9CA0-42CC-9D82-BE84EFE031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E3A6-44EA-4CD7-BDA9-4CF45D3A43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E9B8-8C5B-4AC1-9BEA-259979BC2A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4F64-DBF0-4880-AF14-12BA12B351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294B-23BE-4B78-8418-63A4D94E9A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F0C4-31D6-4131-AEDB-F51BB0BCC2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4784-FC03-46B3-BFF0-B6659B553C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5545-96EA-437B-8DBF-D57D399BC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C484-18EB-4E83-B341-466F26A395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AD98-4720-4548-AE8D-2326F5DAB7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A0F9-72CF-4286-A3B6-840A181A9B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C795-A31C-4AC1-AF3A-E3B6FA2D85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CF0C-D111-4C40-84CB-A2C598490B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7566-B548-49E6-AD73-FC582CC297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BAB8-24E7-45F9-8FC1-14AE95ABCD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836C-0A0C-4BD0-AE18-D01CC26CFE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C70D-E52A-43AA-8328-EA3AFD8BC9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1ECD-30EE-43B6-9796-A4F66404C4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20A9-CD38-4185-B5AA-978E2A9625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C967-CB09-4FC0-934C-CD37F4FB9D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500040" y="2786040"/>
            <a:ext cx="83581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2" descr=""/>
          <p:cNvPicPr/>
          <p:nvPr/>
        </p:nvPicPr>
        <p:blipFill>
          <a:blip r:embed="rId1"/>
          <a:stretch/>
        </p:blipFill>
        <p:spPr>
          <a:xfrm>
            <a:off x="442800" y="961920"/>
            <a:ext cx="825840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28760" y="952560"/>
            <a:ext cx="8286480" cy="49528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4"/>
          <p:cNvSpPr/>
          <p:nvPr/>
        </p:nvSpPr>
        <p:spPr>
          <a:xfrm>
            <a:off x="857160" y="257184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5"/>
          <p:cNvSpPr/>
          <p:nvPr/>
        </p:nvSpPr>
        <p:spPr>
          <a:xfrm>
            <a:off x="857160" y="4643280"/>
            <a:ext cx="5716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4" descr=""/>
          <p:cNvPicPr/>
          <p:nvPr/>
        </p:nvPicPr>
        <p:blipFill>
          <a:blip r:embed="rId1"/>
          <a:stretch/>
        </p:blipFill>
        <p:spPr>
          <a:xfrm>
            <a:off x="566640" y="1738440"/>
            <a:ext cx="8010720" cy="3381120"/>
          </a:xfrm>
          <a:prstGeom prst="rect">
            <a:avLst/>
          </a:prstGeom>
          <a:ln w="0">
            <a:noFill/>
          </a:ln>
        </p:spPr>
      </p:pic>
      <p:sp>
        <p:nvSpPr>
          <p:cNvPr id="1027" name="矩形 6"/>
          <p:cNvSpPr/>
          <p:nvPr/>
        </p:nvSpPr>
        <p:spPr>
          <a:xfrm>
            <a:off x="785880" y="178596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"/>
          <p:cNvPicPr/>
          <p:nvPr/>
        </p:nvPicPr>
        <p:blipFill>
          <a:blip r:embed="rId1"/>
          <a:stretch/>
        </p:blipFill>
        <p:spPr>
          <a:xfrm>
            <a:off x="533520" y="1800360"/>
            <a:ext cx="8076960" cy="3343320"/>
          </a:xfrm>
          <a:prstGeom prst="rect">
            <a:avLst/>
          </a:prstGeom>
          <a:ln w="0">
            <a:noFill/>
          </a:ln>
        </p:spPr>
      </p:pic>
      <p:sp>
        <p:nvSpPr>
          <p:cNvPr id="1029" name="矩形 4"/>
          <p:cNvSpPr/>
          <p:nvPr/>
        </p:nvSpPr>
        <p:spPr>
          <a:xfrm>
            <a:off x="785880" y="1714680"/>
            <a:ext cx="57132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5"/>
          <p:cNvSpPr/>
          <p:nvPr/>
        </p:nvSpPr>
        <p:spPr>
          <a:xfrm>
            <a:off x="785880" y="385776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210520" cy="3057480"/>
          </a:xfrm>
          <a:prstGeom prst="rect">
            <a:avLst/>
          </a:prstGeom>
          <a:ln w="0">
            <a:noFill/>
          </a:ln>
        </p:spPr>
      </p:pic>
      <p:sp>
        <p:nvSpPr>
          <p:cNvPr id="1032" name="矩形 5"/>
          <p:cNvSpPr/>
          <p:nvPr/>
        </p:nvSpPr>
        <p:spPr>
          <a:xfrm>
            <a:off x="7286760" y="1571760"/>
            <a:ext cx="928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"/>
          <p:cNvSpPr/>
          <p:nvPr/>
        </p:nvSpPr>
        <p:spPr>
          <a:xfrm>
            <a:off x="5929200" y="242892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7"/>
          <p:cNvSpPr/>
          <p:nvPr/>
        </p:nvSpPr>
        <p:spPr>
          <a:xfrm>
            <a:off x="7286760" y="3286080"/>
            <a:ext cx="10713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Picture 4" descr=""/>
          <p:cNvPicPr/>
          <p:nvPr/>
        </p:nvPicPr>
        <p:blipFill>
          <a:blip r:embed="rId2"/>
          <a:stretch/>
        </p:blipFill>
        <p:spPr>
          <a:xfrm>
            <a:off x="428760" y="4214880"/>
            <a:ext cx="8134200" cy="1762200"/>
          </a:xfrm>
          <a:prstGeom prst="rect">
            <a:avLst/>
          </a:prstGeom>
          <a:ln w="0">
            <a:noFill/>
          </a:ln>
        </p:spPr>
      </p:pic>
      <p:sp>
        <p:nvSpPr>
          <p:cNvPr id="1036" name="矩形 12"/>
          <p:cNvSpPr/>
          <p:nvPr/>
        </p:nvSpPr>
        <p:spPr>
          <a:xfrm>
            <a:off x="3249720" y="4321080"/>
            <a:ext cx="3357360" cy="319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3"/>
          <p:cNvSpPr/>
          <p:nvPr/>
        </p:nvSpPr>
        <p:spPr>
          <a:xfrm>
            <a:off x="7500960" y="5143680"/>
            <a:ext cx="107172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14"/>
          <p:cNvSpPr/>
          <p:nvPr/>
        </p:nvSpPr>
        <p:spPr>
          <a:xfrm>
            <a:off x="928800" y="5572080"/>
            <a:ext cx="71424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8210520" cy="4200480"/>
          </a:xfrm>
          <a:prstGeom prst="rect">
            <a:avLst/>
          </a:prstGeom>
          <a:ln w="0">
            <a:noFill/>
          </a:ln>
        </p:spPr>
      </p:pic>
      <p:sp>
        <p:nvSpPr>
          <p:cNvPr id="1040" name="矩形 4"/>
          <p:cNvSpPr/>
          <p:nvPr/>
        </p:nvSpPr>
        <p:spPr>
          <a:xfrm>
            <a:off x="2500200" y="2214720"/>
            <a:ext cx="107172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4143240" y="2214720"/>
            <a:ext cx="107172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6854760" y="2214720"/>
            <a:ext cx="1571760" cy="345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7"/>
          <p:cNvSpPr/>
          <p:nvPr/>
        </p:nvSpPr>
        <p:spPr>
          <a:xfrm>
            <a:off x="2786040" y="3500280"/>
            <a:ext cx="1285920" cy="30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"/>
          <p:cNvSpPr/>
          <p:nvPr/>
        </p:nvSpPr>
        <p:spPr>
          <a:xfrm>
            <a:off x="6000840" y="3500280"/>
            <a:ext cx="64296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9"/>
          <p:cNvSpPr/>
          <p:nvPr/>
        </p:nvSpPr>
        <p:spPr>
          <a:xfrm>
            <a:off x="1643040" y="3929040"/>
            <a:ext cx="107172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10"/>
          <p:cNvSpPr/>
          <p:nvPr/>
        </p:nvSpPr>
        <p:spPr>
          <a:xfrm>
            <a:off x="3357720" y="4714920"/>
            <a:ext cx="10713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1"/>
          <p:cNvSpPr/>
          <p:nvPr/>
        </p:nvSpPr>
        <p:spPr>
          <a:xfrm>
            <a:off x="5072040" y="4714920"/>
            <a:ext cx="14288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2"/>
          <p:cNvSpPr/>
          <p:nvPr/>
        </p:nvSpPr>
        <p:spPr>
          <a:xfrm>
            <a:off x="7000920" y="4714920"/>
            <a:ext cx="15717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3"/>
          <p:cNvSpPr/>
          <p:nvPr/>
        </p:nvSpPr>
        <p:spPr>
          <a:xfrm>
            <a:off x="857160" y="5143680"/>
            <a:ext cx="785880" cy="353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509760" y="1743120"/>
            <a:ext cx="8124480" cy="3371760"/>
          </a:xfrm>
          <a:prstGeom prst="rect">
            <a:avLst/>
          </a:prstGeom>
          <a:ln w="0">
            <a:noFill/>
          </a:ln>
        </p:spPr>
      </p:pic>
      <p:sp>
        <p:nvSpPr>
          <p:cNvPr id="1051" name="矩形 4"/>
          <p:cNvSpPr/>
          <p:nvPr/>
        </p:nvSpPr>
        <p:spPr>
          <a:xfrm>
            <a:off x="3429000" y="2643120"/>
            <a:ext cx="164304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5429160" y="2643120"/>
            <a:ext cx="142884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1500120" y="3071880"/>
            <a:ext cx="642960" cy="288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7"/>
          <p:cNvSpPr/>
          <p:nvPr/>
        </p:nvSpPr>
        <p:spPr>
          <a:xfrm>
            <a:off x="2786040" y="3071880"/>
            <a:ext cx="1071720" cy="288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8"/>
          <p:cNvSpPr/>
          <p:nvPr/>
        </p:nvSpPr>
        <p:spPr>
          <a:xfrm>
            <a:off x="1428840" y="4286160"/>
            <a:ext cx="142884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9"/>
          <p:cNvSpPr/>
          <p:nvPr/>
        </p:nvSpPr>
        <p:spPr>
          <a:xfrm>
            <a:off x="5000760" y="4286160"/>
            <a:ext cx="64296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10"/>
          <p:cNvSpPr/>
          <p:nvPr/>
        </p:nvSpPr>
        <p:spPr>
          <a:xfrm>
            <a:off x="1071720" y="4714920"/>
            <a:ext cx="150012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11"/>
          <p:cNvSpPr/>
          <p:nvPr/>
        </p:nvSpPr>
        <p:spPr>
          <a:xfrm>
            <a:off x="3000240" y="4714920"/>
            <a:ext cx="107172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12"/>
          <p:cNvSpPr/>
          <p:nvPr/>
        </p:nvSpPr>
        <p:spPr>
          <a:xfrm>
            <a:off x="4429080" y="4714920"/>
            <a:ext cx="107172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372520" cy="5734080"/>
          </a:xfrm>
          <a:prstGeom prst="rect">
            <a:avLst/>
          </a:prstGeom>
          <a:ln w="0">
            <a:noFill/>
          </a:ln>
        </p:spPr>
      </p:pic>
      <p:sp>
        <p:nvSpPr>
          <p:cNvPr id="1061" name="矩形 4"/>
          <p:cNvSpPr/>
          <p:nvPr/>
        </p:nvSpPr>
        <p:spPr>
          <a:xfrm>
            <a:off x="4821120" y="3597120"/>
            <a:ext cx="57168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"/>
          <p:cNvSpPr/>
          <p:nvPr/>
        </p:nvSpPr>
        <p:spPr>
          <a:xfrm>
            <a:off x="4143240" y="4857840"/>
            <a:ext cx="5716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6"/>
          <p:cNvSpPr/>
          <p:nvPr/>
        </p:nvSpPr>
        <p:spPr>
          <a:xfrm>
            <a:off x="2736720" y="6097680"/>
            <a:ext cx="5716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457200" y="2195640"/>
            <a:ext cx="8229600" cy="2466720"/>
          </a:xfrm>
          <a:prstGeom prst="rect">
            <a:avLst/>
          </a:prstGeom>
          <a:ln w="0">
            <a:noFill/>
          </a:ln>
        </p:spPr>
      </p:pic>
      <p:sp>
        <p:nvSpPr>
          <p:cNvPr id="1065" name="矩形 3"/>
          <p:cNvSpPr/>
          <p:nvPr/>
        </p:nvSpPr>
        <p:spPr>
          <a:xfrm>
            <a:off x="3575160" y="2585880"/>
            <a:ext cx="57132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4"/>
          <p:cNvSpPr/>
          <p:nvPr/>
        </p:nvSpPr>
        <p:spPr>
          <a:xfrm>
            <a:off x="3429000" y="3429000"/>
            <a:ext cx="5716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7:1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